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71389"/>
        <c:axId val="32654184"/>
      </c:barChart>
      <c:catAx>
        <c:axId val="83571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54184"/>
        <c:crosses val="autoZero"/>
        <c:auto val="1"/>
        <c:lblAlgn val="ctr"/>
        <c:lblOffset val="100"/>
        <c:noMultiLvlLbl val="0"/>
      </c:catAx>
      <c:valAx>
        <c:axId val="32654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1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9BC-A95F-46B8-A13D-2FEFA85A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D18-24A8-490F-9417-0E352F30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5BC-FD0E-4E2A-B1E1-B53621AC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E10-3060-4695-B561-54768941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A84-D8C4-4618-9A8F-E823D5AA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074-DCD8-4896-8DCD-A45F7E6F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F92-12E5-4DE5-A632-3CC23BB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399-0F70-45E2-814E-FA091B9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720-9F01-4C24-874A-5BDF10A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762-4BB1-469F-A2AC-7F27E79F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FA2-3E2E-4E68-8E29-7B6D852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A27-D032-43E4-89C8-AD4BC5A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D35A3-D0F2-403D-B19F-00FE302DD8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