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14144"/>
        <c:axId val="26968198"/>
      </c:barChart>
      <c:catAx>
        <c:axId val="18114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68198"/>
        <c:crosses val="autoZero"/>
        <c:auto val="1"/>
        <c:lblAlgn val="ctr"/>
        <c:lblOffset val="100"/>
        <c:noMultiLvlLbl val="0"/>
      </c:catAx>
      <c:valAx>
        <c:axId val="26968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14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FAE-3845-4A8B-9A20-33B8C4C6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1AE-79FD-47F2-A9E7-31C1073C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D12-5F77-4479-9596-9855BC63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3C7C-8AFE-4A1C-9CE6-2643EDA8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8C2-6817-4962-A10F-F6468BD0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301-7D0D-4182-B44A-8279E436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3D24-DC5A-48AF-BE1C-94D58D3A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94B-4124-44F8-8291-B8B9E28B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92A-4EA4-45A9-A03E-16C44C99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8DE-1F79-43F8-B375-DAB5A7D3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1A3-7F3E-4FBD-9DBD-B7D8D053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54C-EC36-4403-9154-76C65761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16707-2BCF-4031-BB0C-BEE0DEC177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