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13211"/>
        <c:axId val="33681079"/>
      </c:barChart>
      <c:catAx>
        <c:axId val="98013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81079"/>
        <c:crosses val="autoZero"/>
        <c:auto val="1"/>
        <c:lblAlgn val="ctr"/>
        <c:lblOffset val="100"/>
        <c:noMultiLvlLbl val="0"/>
      </c:catAx>
      <c:valAx>
        <c:axId val="33681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13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E7A-D43C-4FCD-8056-14B1C584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345-EFCC-4498-9E06-721DEEC7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085-843E-4634-8BA5-C3BDD5F1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55B-A494-4CD5-88D4-8636B2B0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A68-028C-4C88-8168-0E749B8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1C7-178D-4311-9F39-AE476ED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E2A-5A0E-43A2-B81E-C3763C15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7F7-228B-40B1-8965-8AC3ADDD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1FE-68C3-4E3F-9FE5-4861BDE0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3C0-D2FE-4505-96A9-C999F8E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043-3BF5-416D-B7B2-CD4BFA0A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CA5-B648-4523-A6D3-6E8E205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509F0-84EC-484A-A125-E51922B965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