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48576"/>
        <c:axId val="51401186"/>
      </c:barChart>
      <c:catAx>
        <c:axId val="93448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01186"/>
        <c:crosses val="autoZero"/>
        <c:auto val="1"/>
        <c:lblAlgn val="ctr"/>
        <c:lblOffset val="100"/>
        <c:noMultiLvlLbl val="0"/>
      </c:catAx>
      <c:valAx>
        <c:axId val="51401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48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968-43CE-4948-BF75-07E831BA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2B1-B65A-46BC-B4D0-DD9A9145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D38-4164-4F8E-925A-58B3C191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4203-EB08-48D9-958D-390A91DA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2BA-1FF4-4A0A-9682-593C0CD8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F87-238E-4B01-A45E-69BCEC22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E0A-45F6-4959-8BDD-BC02CA01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1EF-016E-4BE3-AD43-27F7FA6F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F91-944E-4D2B-A1D4-2C77F95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34D-DDE7-44D1-9CA4-AF204F92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D27-F0C3-428A-A8D6-157EA3A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611-4963-4D8B-B93B-2146B4C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E8044-280E-4E2F-9F4A-2D99E3CD2C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