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17714"/>
        <c:axId val="2775024"/>
      </c:barChart>
      <c:catAx>
        <c:axId val="83017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5024"/>
        <c:crosses val="autoZero"/>
        <c:auto val="1"/>
        <c:lblAlgn val="ctr"/>
        <c:lblOffset val="100"/>
        <c:noMultiLvlLbl val="0"/>
      </c:catAx>
      <c:valAx>
        <c:axId val="2775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17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537-3444-45AB-B89A-2AD7467B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DF3-A99F-47C7-BC0F-BC32F0A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F79-2CE2-4DD9-B563-296407BD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544-0F17-4F38-A327-9EC2648E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F78-5655-419C-9360-641AFA6E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21C-7AEC-45E1-B197-276CAB0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06D-B8EF-4B86-950D-E550013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1C6-4CB5-45A5-9ECE-58BCD8C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AD0-1722-4AB4-8624-D1F0B14D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774-0E0A-4E2E-BBA8-4D572F9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F6C-A26B-45A9-B983-706DE51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04A-279B-4DD1-9C2C-20B2017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930E-915F-4259-BDFB-21666D0A7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