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75667"/>
        <c:axId val="843274"/>
      </c:barChart>
      <c:catAx>
        <c:axId val="891756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274"/>
        <c:crosses val="autoZero"/>
        <c:auto val="1"/>
        <c:lblAlgn val="ctr"/>
        <c:lblOffset val="100"/>
        <c:noMultiLvlLbl val="0"/>
      </c:catAx>
      <c:valAx>
        <c:axId val="843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756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E19-C3E3-488C-93B1-A592FD4B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53E-9B26-4498-AB16-B309540F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02B0-CBAB-4A0F-8269-170009C3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AE0-9166-4124-8345-EC3DC22E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6D89-AAC9-49F4-B25F-19EF35E4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276-D017-4EF5-BC3D-41012ED9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697-6754-4744-8E56-62374EF0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679-7DDD-4538-BC55-5A93F101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293-945A-4978-BB1A-27A48685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457-CBE7-49A2-B57E-96A1E935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1EE-30E6-449C-ABC9-F6F3F007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171-351E-4423-B6EB-360A8CDB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E84AA-2786-4FAB-8B77-A3E555FD49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