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04573"/>
        <c:axId val="58983535"/>
      </c:barChart>
      <c:catAx>
        <c:axId val="18304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83535"/>
        <c:crosses val="autoZero"/>
        <c:auto val="1"/>
        <c:lblAlgn val="ctr"/>
        <c:lblOffset val="100"/>
        <c:noMultiLvlLbl val="0"/>
      </c:catAx>
      <c:valAx>
        <c:axId val="58983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04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196-3555-4F89-80A7-736C994D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C8C-D7CC-4594-8D9E-37ED978C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E55-3A49-4E43-9E1E-AF4105B5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656-EBEF-4019-84A5-A022FAD8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3BD-C669-423A-8235-8C0E4655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A7B-1B44-4B3D-8AB6-8E7257D6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D4B-BC40-4DDC-BBCD-03778730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2EB-65DB-45ED-9BCA-F6AAA57F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15D-D005-49AF-8B9D-4920A3B4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BD7-953B-40D9-8DBC-F2C5BB0E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A66-2DCF-4B13-8FC1-84D058E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B10-A271-4D64-83F8-BD25487E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E4419-130A-4AF8-B9C2-E7C84F6693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