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82775"/>
        <c:axId val="92640599"/>
      </c:barChart>
      <c:catAx>
        <c:axId val="62382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40599"/>
        <c:crosses val="autoZero"/>
        <c:auto val="1"/>
        <c:lblAlgn val="ctr"/>
        <c:lblOffset val="100"/>
        <c:noMultiLvlLbl val="0"/>
      </c:catAx>
      <c:valAx>
        <c:axId val="92640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82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F95-2546-4314-8E4D-B9CEE09F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FE2-E046-4A02-91AD-2CF065FE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7FB-AB31-4C6C-8072-DE0862EB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C0A-692E-4877-AB58-1293B9EE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E1E-E04E-49FB-B5FC-C6A10601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4E6-FDCF-47DF-895E-A344F73A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DCB-16A0-4DBF-80DD-EF7A2523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F42-7086-458B-B2D1-CF43FEA5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D80-8FDB-46F1-8E5B-FCBB478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DD8-2CF1-492B-825C-34E8FB7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89E-5FDE-409D-BCC3-EF0C2844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C00-6FF6-4EF2-AD3B-38910DAB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01170-CEA3-4CBC-B17E-2AB7DCF29C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