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2978"/>
        <c:axId val="61738504"/>
      </c:barChart>
      <c:catAx>
        <c:axId val="738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38504"/>
        <c:crosses val="autoZero"/>
        <c:auto val="1"/>
        <c:lblAlgn val="ctr"/>
        <c:lblOffset val="100"/>
        <c:noMultiLvlLbl val="0"/>
      </c:catAx>
      <c:valAx>
        <c:axId val="61738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1A8-B415-4520-8987-86BCE385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B31-0655-45BC-B462-AAFF0E5B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E77-61C8-4F5B-8BA5-E75865C8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929-2128-4ED2-94DB-8EF4B80C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360-7143-45DB-AD40-0E17D424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191-98E8-4257-AF87-F8D3104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505-BB84-4FE6-AA6A-0732F0F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F7B-761C-4BC8-AF41-0183729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181-029C-4675-859D-FBB57251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84D-81D4-49DA-9635-B60CB00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3DA-869A-4EBB-9904-29EE3DE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739-AB63-49CA-8853-18C2730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61E89-9E14-4AA5-9628-07B95A4CB1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