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07373"/>
        <c:axId val="16167841"/>
      </c:barChart>
      <c:catAx>
        <c:axId val="46407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67841"/>
        <c:crosses val="autoZero"/>
        <c:auto val="1"/>
        <c:lblAlgn val="ctr"/>
        <c:lblOffset val="100"/>
        <c:noMultiLvlLbl val="0"/>
      </c:catAx>
      <c:valAx>
        <c:axId val="16167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07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0B2-028C-4C86-A8F6-7919835C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FA7-B4B8-431D-A501-A5CD03CE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CD9-71BC-465E-99A5-AA706288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BF5-0827-41E3-B1B5-0627E3AA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36B-BC65-4FD8-8116-FB6D8754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008-C5FF-41D7-9770-27C5643B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D8B-EA6B-44C1-9497-39B48BBA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1E6-9964-49B5-AFF0-8F350266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FAD-4A9C-4E16-95C3-C6246E58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AA7-9CB5-42F6-BEA7-516F4AEF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42D-C1EF-4FC2-AD48-0A88D649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0A2-A150-4312-89EE-06D85EA9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D29A3-D933-4699-A41D-22D27B9F6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