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26563"/>
        <c:axId val="72610084"/>
      </c:barChart>
      <c:catAx>
        <c:axId val="36826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0084"/>
        <c:crosses val="autoZero"/>
        <c:auto val="1"/>
        <c:lblAlgn val="ctr"/>
        <c:lblOffset val="100"/>
        <c:noMultiLvlLbl val="0"/>
      </c:catAx>
      <c:valAx>
        <c:axId val="72610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26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F02-CADA-4DA5-A4EB-AA84C1AF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D3C-CC4C-4BCC-98B5-5C3487D1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A8C-8DDA-43E9-AD58-73D1686C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AC4-6C46-4E3B-B25E-92683CD4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06B-DBB7-4537-9461-3051061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72D-D32B-4DE0-86B8-1D5FA63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EC5-736F-4367-9080-4129CC1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DAA-28C8-4426-B02C-6655A45E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FD9-71AF-4273-B97A-15301D06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879-0B98-4503-BE12-F497EE3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0611-5FB0-4C43-B573-DB7F5CB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61B-6B21-4C5D-A8E9-BDF6D92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92C0D-07D2-47F2-90FF-353AF8C881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