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25805"/>
        <c:axId val="89814844"/>
      </c:barChart>
      <c:catAx>
        <c:axId val="11325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4844"/>
        <c:crosses val="autoZero"/>
        <c:auto val="1"/>
        <c:lblAlgn val="ctr"/>
        <c:lblOffset val="100"/>
        <c:noMultiLvlLbl val="0"/>
      </c:catAx>
      <c:valAx>
        <c:axId val="89814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5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FC4-6BF9-4930-AE6F-D1C748B8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CD7-AF1A-42D4-A832-4D4F071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73A-964E-45F4-BBE2-227A8FDE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43F-69C2-447A-A160-7C48107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638-3044-4D2B-AA65-D6B07E7E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310-D36D-4C88-9E2C-1718E63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FA8-EE0C-4751-BFC2-E212A3B2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8C4-7A57-4B66-B11E-2DF0B6C5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3AE-114C-4709-97CD-658B4CC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306-EAA1-46E2-833A-6CF92FDF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8AA-6A54-4284-8FF5-650C4D5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045-D7EF-4F35-B7AA-05B1BC9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65D36-0327-4E1C-873B-826AABBB0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