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47891"/>
        <c:axId val="19745826"/>
      </c:barChart>
      <c:catAx>
        <c:axId val="95347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5826"/>
        <c:crosses val="autoZero"/>
        <c:auto val="1"/>
        <c:lblAlgn val="ctr"/>
        <c:lblOffset val="100"/>
        <c:noMultiLvlLbl val="0"/>
      </c:catAx>
      <c:valAx>
        <c:axId val="19745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47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650-FFDA-4E1A-BA79-AE265CB8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1B1-C6EC-45B5-AC6E-9D77743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742-2F16-4B9C-A5A4-B75D868A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275-6EF9-4AAD-8196-8395A76C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B07-5247-41C9-A230-D81382A0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E50-6F55-4552-88C5-D7829C7B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32F-C784-4AF6-ADA6-C662A030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86F-F6EA-46C6-9FA9-009785D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EE6-B02B-4639-81D1-34EF21E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B6D-21B2-4926-B182-03EB4F1F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1DD-97FD-4E0D-8A8C-FEC4309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E06-EE11-4ACC-88EA-057C4649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CBFF5-80EA-41C5-B6FE-1A4AA93EA3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