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615650"/>
        <c:axId val="5089503"/>
      </c:barChart>
      <c:catAx>
        <c:axId val="776156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89503"/>
        <c:crosses val="autoZero"/>
        <c:auto val="1"/>
        <c:lblAlgn val="ctr"/>
        <c:lblOffset val="100"/>
        <c:noMultiLvlLbl val="0"/>
      </c:catAx>
      <c:valAx>
        <c:axId val="50895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6156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C5C7-60DC-40D7-B75B-2DE781419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DCC0-8E30-475E-89A2-66A8BCCE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4E02-7F2C-4249-8B82-A34579FF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1845-4B80-46B3-A333-0C06CF34B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1547-9A31-47EC-9DEE-339EAD1D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DA1E-9E3F-4798-A674-B378EB2A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0828-8C2B-4DA5-AF3E-7D901088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5B8E-50CC-4B7B-8A1B-08BE983B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52A5-999F-48C2-BEB8-D8A3B12C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0A1E-940B-4C42-B8C2-9B736BDF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2977-2062-4CF7-AC91-2455968F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F999-7265-4466-8407-0495E54E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FF1B9-5158-4420-855A-C0BCC1BCE8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