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24598"/>
        <c:axId val="8566398"/>
      </c:barChart>
      <c:catAx>
        <c:axId val="56124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6398"/>
        <c:crosses val="autoZero"/>
        <c:auto val="1"/>
        <c:lblAlgn val="ctr"/>
        <c:lblOffset val="100"/>
        <c:noMultiLvlLbl val="0"/>
      </c:catAx>
      <c:valAx>
        <c:axId val="8566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24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674-A849-4E66-84B7-4C12BAE5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5FD-EB96-4B2F-91A5-149D2C25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B8F-9918-4403-986A-A236D049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DA2-BEB0-41C0-9138-C483FCEE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7AA-B483-42B9-A735-9BBAC4E2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92B-21A8-40AD-A288-DAF4DE73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2EF-8158-449D-8619-02CBFB25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15E-70BA-42AF-9A80-3EDD8796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8A0-FED3-42F2-BA8B-B3150B9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B86-E3BD-4A9A-A131-E2B5AC81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153-3930-4362-B9E8-34A177E2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576-F30B-4E45-A9BF-3BC95AD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A5FEB-33B9-48EF-B2C3-5C185A979E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