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57825"/>
        <c:axId val="92622564"/>
      </c:barChart>
      <c:catAx>
        <c:axId val="85657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2564"/>
        <c:crosses val="autoZero"/>
        <c:auto val="1"/>
        <c:lblAlgn val="ctr"/>
        <c:lblOffset val="100"/>
        <c:noMultiLvlLbl val="0"/>
      </c:catAx>
      <c:valAx>
        <c:axId val="92622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57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858-203F-4F9A-96AA-3A506E4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30A-BAEA-422E-8498-5C43C3B4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A35-179E-4390-BAA8-BE416F22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96B-AC0F-4FCB-A096-B0D9FAA9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F04-117B-48CD-85D6-A576AC1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F79-897A-4738-B9D8-2847ED8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CC5-A9C6-497C-94F9-44898381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CEB-4385-4B54-B5A9-A9CF9EB5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060-3D1C-4A4F-8B6A-0432FE8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742-AC72-4EA8-ACDD-BDF13F9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193-409E-42E1-81EC-684787B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874-6B3C-4395-B1A9-BA51503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4A3B-8FDD-4A89-92DF-D424EB07F6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