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12936"/>
        <c:axId val="63417781"/>
      </c:barChart>
      <c:catAx>
        <c:axId val="27212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17781"/>
        <c:crosses val="autoZero"/>
        <c:auto val="1"/>
        <c:lblAlgn val="ctr"/>
        <c:lblOffset val="100"/>
        <c:noMultiLvlLbl val="0"/>
      </c:catAx>
      <c:valAx>
        <c:axId val="63417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12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8BC-39C2-4A21-BA6B-F0105293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8FA-3622-4C3E-B0B4-4B61AF61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7366-2883-4B1F-9524-AA17722C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5A9-F021-4FFA-A5BE-A270049C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9E3-F2C4-4DCF-A2BE-DBEBC1EC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B47-8138-4CCC-AEE5-4E447305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961-786A-4D0E-9978-BE7617DE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4F8-5949-4A97-B18A-D69CA89E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947-ADFB-446D-AB0A-82B0C471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104-F8FC-48FA-ACCB-CE1CC7B6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284-80AA-4B0D-8BC7-516C68F9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560-F8D5-40EA-9A9B-2C48792C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A184A-6431-409D-A82A-9F56F6DDE6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