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33987"/>
        <c:axId val="91587177"/>
      </c:barChart>
      <c:catAx>
        <c:axId val="80833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7177"/>
        <c:crosses val="autoZero"/>
        <c:auto val="1"/>
        <c:lblAlgn val="ctr"/>
        <c:lblOffset val="100"/>
        <c:noMultiLvlLbl val="0"/>
      </c:catAx>
      <c:valAx>
        <c:axId val="91587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3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FC1-6F00-4920-BF38-EDB33399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9C4-00D6-4661-A448-44F1179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0D4-BDB9-4087-8B86-BA236EA4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A6A-6F00-43F1-9110-F84CDC74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06B-6A43-4EE6-809A-021B8E9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D94-955D-4952-BE0C-C55FA8F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F08-B339-4E57-A1CE-2A5E8C4A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7E9-30C8-43DD-9BC3-35E40E50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E39-60E2-49AE-B354-DA111F5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825-6AC7-47F4-93F6-2726B50D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8B0-1115-4117-A54E-21DE495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4E8-4D32-45E9-978F-5886921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1B63-588F-4F2B-B971-660C7B7E52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