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50269"/>
        <c:axId val="20281401"/>
      </c:barChart>
      <c:catAx>
        <c:axId val="54150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81401"/>
        <c:crosses val="autoZero"/>
        <c:auto val="1"/>
        <c:lblAlgn val="ctr"/>
        <c:lblOffset val="100"/>
        <c:noMultiLvlLbl val="0"/>
      </c:catAx>
      <c:valAx>
        <c:axId val="20281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50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2D1-991F-4C83-868B-2B5B83D3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DBD-48F1-46C2-B31F-B696AB2B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605C-8D2D-4606-96B0-1EE6FCF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AA7-5B6D-4A6F-AE89-ABA8C07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3D1-21A9-4200-B234-09FBF1D5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981-8C3B-4B6E-8013-9CA4278C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3E9-9848-4E5B-9698-A7AA3EBD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7BC-6020-4FDB-B1CF-D27B3AE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910-E707-43F3-B751-4DFC36C8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D08-424F-4E7B-8899-DEBE9308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24C-8ABD-41BA-B3BA-BA9C804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413-1D35-463F-9038-311CC44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87C25-7F69-4DD9-B945-2FC762DE3E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