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80155"/>
        <c:axId val="17347280"/>
      </c:barChart>
      <c:catAx>
        <c:axId val="76580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47280"/>
        <c:crosses val="autoZero"/>
        <c:auto val="1"/>
        <c:lblAlgn val="ctr"/>
        <c:lblOffset val="100"/>
        <c:noMultiLvlLbl val="0"/>
      </c:catAx>
      <c:valAx>
        <c:axId val="17347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80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5D9-1CBD-478C-98E7-47E1ADCD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319-6494-4A01-ACCA-5DA14123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9D4-5FB1-4BB6-BBCA-1A81B837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D06-DED9-48A6-8AFD-6E843E03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C9D-9276-47D8-9396-1F69A18A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658-B6E2-4112-A7EF-9E378689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164-D096-45BD-B0D8-56E372C1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898-60D6-49E2-8125-FB5B5021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E9D-B7A1-483C-871C-D5AD041D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4A8-EBA1-4FAC-A029-AABEA1E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F97-930F-4CE4-961B-1544A571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A02-ACBB-4353-9CD5-1C20EE13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5DCEB-BC32-43B3-964A-EC2AEF699D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