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2210"/>
        <c:axId val="66968328"/>
      </c:barChart>
      <c:catAx>
        <c:axId val="7102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68328"/>
        <c:crosses val="autoZero"/>
        <c:auto val="1"/>
        <c:lblAlgn val="ctr"/>
        <c:lblOffset val="100"/>
        <c:noMultiLvlLbl val="0"/>
      </c:catAx>
      <c:valAx>
        <c:axId val="66968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871-9E58-4FB1-A0F7-857CD0FD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B50-D633-4804-957A-A66B0854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148-1DAE-407C-9346-ECE16F64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025-1F6C-49C8-A6E4-48442120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AFA-F4B7-481B-BD3D-CE4F1D3A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81-E906-4CFB-BF39-F48E6022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F2E-8DD6-4D1E-820F-4F22D816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0F7-5DB6-4D74-8B86-63D4E33D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6DC-7569-4209-91D0-1F2FD6B9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961-63B5-4551-8B45-E6C44F8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234-01C3-4C73-BD0D-34A8459D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F12-375D-4B59-A125-3A03DEA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CE6AF-05C2-4D0E-B7EE-80F5F0B86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