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644257"/>
        <c:axId val="26475760"/>
      </c:barChart>
      <c:catAx>
        <c:axId val="386442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475760"/>
        <c:crosses val="autoZero"/>
        <c:auto val="1"/>
        <c:lblAlgn val="ctr"/>
        <c:lblOffset val="100"/>
        <c:noMultiLvlLbl val="0"/>
      </c:catAx>
      <c:valAx>
        <c:axId val="264757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6442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D508-27DC-4D02-AD8B-3D052D3A4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C90D-5851-4624-A5AB-1EDF3D9D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D820-0389-4946-A4E1-586934868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7B5B-B68C-4DD5-954F-53D4950BE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3065-54D9-4402-BE8A-6B1D53B3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B6A3-1F98-461A-8430-9B04E9EC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6DE3-486A-4C43-A374-A4DCA055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4342-15CB-4AF4-B884-C350EB9D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0167-1971-4DE4-A117-B541D305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966A-EFD9-48C5-BF5B-EBCFD4D0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9C75-6423-4DD8-B618-FA2305E2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B9C6-C3EF-408F-B5BD-D3BC4944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6BD57-3284-4C21-B167-F93721A02C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