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763617"/>
        <c:axId val="41796239"/>
      </c:barChart>
      <c:catAx>
        <c:axId val="72763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796239"/>
        <c:crosses val="autoZero"/>
        <c:auto val="1"/>
        <c:lblAlgn val="ctr"/>
        <c:lblOffset val="100"/>
        <c:noMultiLvlLbl val="0"/>
      </c:catAx>
      <c:valAx>
        <c:axId val="417962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763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3FD1-3286-4E61-9A16-DE16561F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72C1-9036-48C7-AB95-E5816F88F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DEE6-86BF-41B3-AD58-15EDC1152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C44DB-9C28-4943-99AF-7C585B064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41F1-2F07-46DD-B384-E2C78C15B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A935-3986-42AB-9253-002DE759E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CFF9F-DB93-469E-837B-8FFBB28A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BE5D-F4F4-4499-96F7-AFE579177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F817-E8C0-4774-ACB5-4948931F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6850-B9B0-4371-81BA-98E945767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42A0E-ACFB-4D45-856A-EF32CA79F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4B5-EECC-4B0B-9FDD-28F421043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594C51-02E0-480F-BD8F-77A8BEDD53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