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41622"/>
        <c:axId val="76483204"/>
      </c:barChart>
      <c:catAx>
        <c:axId val="93141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83204"/>
        <c:crosses val="autoZero"/>
        <c:auto val="1"/>
        <c:lblAlgn val="ctr"/>
        <c:lblOffset val="100"/>
        <c:noMultiLvlLbl val="0"/>
      </c:catAx>
      <c:valAx>
        <c:axId val="76483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41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F89-EE35-45D9-9B4F-E49946A3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C12-B274-4149-8CB5-756E5377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DC1-FE32-4050-8B6F-7E642A7F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4BE-9B34-48D3-90AA-2F491954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5C3-2DE0-4BC8-8FC1-BF2FEAEA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95E-ACA3-47CB-AD5B-20142B82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EEB-0C49-4B20-8B0D-E7DABC5D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9C2-25F6-4685-A772-8DA134F4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033-0723-4BDB-9018-7C7E1D00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9BD-B845-4BA5-9476-674D660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004-94EA-4C5C-A142-03F9C9AA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7B7-3E19-45D4-B212-B76FD705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92BB9-6DF8-47B3-ACAC-C14DFE9653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