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253816"/>
        <c:axId val="39745476"/>
      </c:barChart>
      <c:catAx>
        <c:axId val="832538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745476"/>
        <c:crosses val="autoZero"/>
        <c:auto val="1"/>
        <c:lblAlgn val="ctr"/>
        <c:lblOffset val="100"/>
        <c:noMultiLvlLbl val="0"/>
      </c:catAx>
      <c:valAx>
        <c:axId val="397454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2538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04EE-3B45-4FBE-9F5D-10D38CFEF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0EB9-AB28-46B9-8185-EC9464AA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89E8-D219-46CA-BD9B-5D3854C44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5B4F-6A60-4475-B7A7-D3A29023B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F8B2-1D7D-4D1F-88E9-3B1F5CEF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01D0-0635-4149-8755-D7BF449D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1813-2A7A-4835-942C-89364C9D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9A66-EFF6-4CCA-BCA3-2D569F3C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6418-47C7-432C-9642-C2F7EA11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7720-455D-451F-A5C6-553F1C14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20BB-601B-4B53-8580-DAD03211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39C0-C32E-4495-9B58-E56B0988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623AD5-7F7F-46C1-8C35-8006268ED5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