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68018"/>
        <c:axId val="36079827"/>
      </c:barChart>
      <c:catAx>
        <c:axId val="58868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79827"/>
        <c:crosses val="autoZero"/>
        <c:auto val="1"/>
        <c:lblAlgn val="ctr"/>
        <c:lblOffset val="100"/>
        <c:noMultiLvlLbl val="0"/>
      </c:catAx>
      <c:valAx>
        <c:axId val="36079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68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F62-A77B-4136-B618-3B4F6BB2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C0C-546D-4DF7-9CB0-1BDCE351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B30-A00D-4FFA-8A41-74CB41EE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B41-4D3D-4F84-93D3-B2AF5FC8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95C-A72C-4431-B74F-BB7120CE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F1B-0A5A-4B67-B465-704557E2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418-6C52-4C83-BF90-D74DD8D7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352-DC19-4EA7-9414-45C2569F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27A-A6B7-4FA0-A300-6FEF9884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7A0-3664-42BA-BB93-2A2C401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686-8BEE-43C4-B3BB-A401219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16C-8144-408A-AD6C-CB0CDA7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14F96-DADC-4BA0-AAB9-8C61BF0DBA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