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54212"/>
        <c:axId val="42600833"/>
      </c:barChart>
      <c:catAx>
        <c:axId val="39154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00833"/>
        <c:crosses val="autoZero"/>
        <c:auto val="1"/>
        <c:lblAlgn val="ctr"/>
        <c:lblOffset val="100"/>
        <c:noMultiLvlLbl val="0"/>
      </c:catAx>
      <c:valAx>
        <c:axId val="42600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54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FDF-7EC5-4D43-BE92-862AA4F6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68F-ACCA-4B3F-AD32-0644327E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4DBC-F4B8-49CD-B413-D387F060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81D-8284-4205-B54A-657C9790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E26-9DF1-4EE3-B071-94E03B5D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85B-89DC-432A-BAE6-A41A53D1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BFA-E2F1-41AA-962E-2A85FEAD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AC4-9DA4-4704-A8B1-BFE876D5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4AE-16D2-4B5B-A4C8-380ACBC7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F09-45E0-4E39-B91B-1884C7F4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AA0-14F4-4D57-921A-C9976F38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4F2-577D-4D6D-B735-7F106368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FDCF0-D361-479F-9C1F-3F9BA1D3DC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