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863818"/>
        <c:axId val="4167416"/>
      </c:barChart>
      <c:catAx>
        <c:axId val="198638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7416"/>
        <c:crosses val="autoZero"/>
        <c:auto val="1"/>
        <c:lblAlgn val="ctr"/>
        <c:lblOffset val="100"/>
        <c:noMultiLvlLbl val="0"/>
      </c:catAx>
      <c:valAx>
        <c:axId val="41674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638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A337-4804-4DD6-8848-DC822A0F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91D8-04B1-4C6B-8850-DE9587FF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6A69-AAC2-4933-A3DA-79AF3F902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781D-826D-4142-BDC0-B8F4DE4E1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610A-6127-4F9F-8621-D7FF4F10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61A6-E326-412E-AF70-614FDE0C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5351-0053-4EA0-8241-29DF331E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0867-ECED-4680-9FBD-F1C2C2C3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D1D4-4744-49ED-87C0-2B761865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2781-4F37-45AC-B884-5D34B5B5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0156-3793-4426-B156-5F53EB32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C80F-8B9C-4189-A675-54317ECA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FD20A-4BD7-4DC5-B7BD-325D8CE506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