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06343"/>
        <c:axId val="26604540"/>
      </c:barChart>
      <c:catAx>
        <c:axId val="68106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04540"/>
        <c:crosses val="autoZero"/>
        <c:auto val="1"/>
        <c:lblAlgn val="ctr"/>
        <c:lblOffset val="100"/>
        <c:noMultiLvlLbl val="0"/>
      </c:catAx>
      <c:valAx>
        <c:axId val="26604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06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D21-B01B-4DEE-BC7B-1B45CC46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271-6ACF-4D4F-97D7-3D77748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598-6E11-41C1-B773-37EE85DE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1C9-C416-401B-A66D-299813EC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0E6-09ED-4527-812D-3EF58988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94B-083A-4B25-B5BB-5E06B55B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799-C4A8-431E-81B6-BBB12A19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6A0-8E58-4E54-A6F9-7A661E7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C0C-EFEF-4160-AB74-B53CFB81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D49-CBAC-4AC4-8251-63D969AC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83C-7BAA-4D39-8BAF-1231B1BF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897-AB67-463F-96E0-6C98778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B0B70-E81D-4701-86FC-675BC012A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