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246665"/>
        <c:axId val="97543829"/>
      </c:barChart>
      <c:catAx>
        <c:axId val="402466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543829"/>
        <c:crosses val="autoZero"/>
        <c:auto val="1"/>
        <c:lblAlgn val="ctr"/>
        <c:lblOffset val="100"/>
        <c:noMultiLvlLbl val="0"/>
      </c:catAx>
      <c:valAx>
        <c:axId val="975438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2466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1295-4FBE-424A-9FD4-0542796A9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2C88-FD18-48E2-8743-8F7AF3BD7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CDC3-DC7B-4D54-99CA-85EE2D69C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9FDC-5F18-4FE2-AFCB-6D5698A74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DD6A-03E1-4790-84C6-F8ED329AE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9440-4A54-4544-B2E7-9EDC705B8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A44B-CA7C-4CF3-B259-A953419F3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3E22-FA67-43B7-AA44-793E0F564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24A2-675F-418F-B7D6-81E69593F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F175-364C-4527-B67F-FE336E1A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407F-0B17-44B8-86E9-BABEA0C83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F9E8-B614-4199-A76C-0AABD234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9182E4-31AB-41B8-AECC-275FF928195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