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45277"/>
        <c:axId val="17238022"/>
      </c:barChart>
      <c:catAx>
        <c:axId val="46645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8022"/>
        <c:crosses val="autoZero"/>
        <c:auto val="1"/>
        <c:lblAlgn val="ctr"/>
        <c:lblOffset val="100"/>
        <c:noMultiLvlLbl val="0"/>
      </c:catAx>
      <c:valAx>
        <c:axId val="17238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45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145-84CA-4784-BA27-5EA246D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402-383E-4F4B-9AF2-91859E5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304-3A9C-4502-AAB1-D25034A4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4DA-0A6E-4A2E-9BF7-7DCE5073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C6A-3CD1-4DFD-82B8-34F12C1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BAF-E5FF-462D-BF46-C472010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30F-3D58-4BC8-8FAE-710538D8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8C6-BD7D-463B-8F2E-625FDFB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76F-2049-4BC9-9D29-026DA4A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521-3D7F-4F78-AF82-5BAB16C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F4A-AA9D-4625-B0D4-C498689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5A4-31EC-434E-9299-C4F56F3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A8CA-96BF-4867-A974-5B8A57C97A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