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31486"/>
        <c:axId val="68198926"/>
      </c:barChart>
      <c:catAx>
        <c:axId val="31431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8926"/>
        <c:crosses val="autoZero"/>
        <c:auto val="1"/>
        <c:lblAlgn val="ctr"/>
        <c:lblOffset val="100"/>
        <c:noMultiLvlLbl val="0"/>
      </c:catAx>
      <c:valAx>
        <c:axId val="68198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1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5C3-7902-426F-A73F-28C89761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5B4-FE7B-4AE7-8D06-C7906B9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FA1-E842-4447-9254-449D8C78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DFE-82F4-4391-9C33-EA2CF04A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668-CCF8-4D6E-8568-1851B81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93A-C61E-4B7B-BD46-7A1B8FF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850-8269-4526-941D-999CAE54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213-8769-4F80-BA35-4F17426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88F-D27D-4890-B872-5C957226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34C-CD06-4F9C-BD86-E246390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DF0-CD4D-4136-99BB-B93817F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05F-23A2-41AC-83D5-D1B1CBF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AEEF-C165-494C-9975-EFC46977C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