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128"/>
        <c:axId val="90478856"/>
      </c:barChart>
      <c:catAx>
        <c:axId val="842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78856"/>
        <c:crosses val="autoZero"/>
        <c:auto val="1"/>
        <c:lblAlgn val="ctr"/>
        <c:lblOffset val="100"/>
        <c:noMultiLvlLbl val="0"/>
      </c:catAx>
      <c:valAx>
        <c:axId val="90478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346-A999-491B-B58E-9E2913A7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EBE-5995-4FFD-A0B7-AD7596F9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F4A-8226-4B5A-8402-A0C8A0A7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2CF-19DC-4CDC-9DD5-8721E8F6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753-65D0-487B-8A85-251A013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9A4-C5BE-4EA8-8BAA-E2025FA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520-D262-4123-8FB9-4B367CD1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D8F-D768-434F-96B5-1EF74AD3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BC7-9A05-432A-B2D9-958675DB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6B8-F61A-4E15-9E84-EF4B008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0C8-AF28-45C1-81AB-C8CE4DF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7CC-5EAA-45E7-9653-81C94A9B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ABFC6-C32F-4DE4-8C34-AB61E97959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