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75659"/>
        <c:axId val="26789791"/>
      </c:barChart>
      <c:catAx>
        <c:axId val="34975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9791"/>
        <c:crosses val="autoZero"/>
        <c:auto val="1"/>
        <c:lblAlgn val="ctr"/>
        <c:lblOffset val="100"/>
        <c:noMultiLvlLbl val="0"/>
      </c:catAx>
      <c:valAx>
        <c:axId val="26789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75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CAD-C034-472F-8B93-D41FC577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AE0-3EF1-4A45-9F31-C891343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D5C-15E6-4AD1-AF24-055A7202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101-E8FC-4DE6-841B-1CACF3B2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095-6AA8-4869-865F-9BA387E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869-23A6-488E-A0C2-12C072B3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50B-1458-456E-B59E-4E78DDA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141-F5DA-413F-BADC-C9FE12A7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F34-D961-49A1-8ADD-281429B6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4E5-5A41-4568-B87D-CE445CDA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77B-FB57-4CA7-A6E2-ACF92A8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3AD-0134-4FD7-BDDC-670EFCE1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686D2-A402-4621-8E85-C695F3331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