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50641"/>
        <c:axId val="34407269"/>
      </c:barChart>
      <c:catAx>
        <c:axId val="91750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07269"/>
        <c:crosses val="autoZero"/>
        <c:auto val="1"/>
        <c:lblAlgn val="ctr"/>
        <c:lblOffset val="100"/>
        <c:noMultiLvlLbl val="0"/>
      </c:catAx>
      <c:valAx>
        <c:axId val="34407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50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099-28AB-4157-93A4-8D20CD69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D51-CF9E-4D5B-8A4A-11A39E1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920-0D23-4F9C-9D17-46EB6E48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EBF-B6B6-4298-9D21-99768160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165-1742-472D-BCDB-C95CE253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AD8-26E2-4FB1-8342-A9C1EDD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A0D-B894-48E4-B86C-71E88676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AB2-6465-4D8F-AA50-711D1000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B06-691A-4CB4-BB0B-E5E857AE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ED3-4C5C-4E63-A2D3-0C62B1B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7E1-C928-4EBF-8696-56BD589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BD0-B620-4BA9-913E-ED6BD95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ADCC3-ED8C-4F23-BA97-4A0DFAA2B4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