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37589"/>
        <c:axId val="87163428"/>
      </c:barChart>
      <c:catAx>
        <c:axId val="26237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63428"/>
        <c:crosses val="autoZero"/>
        <c:auto val="1"/>
        <c:lblAlgn val="ctr"/>
        <c:lblOffset val="100"/>
        <c:noMultiLvlLbl val="0"/>
      </c:catAx>
      <c:valAx>
        <c:axId val="87163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37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4C0-2218-4B0D-AEED-966007D6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23E-E290-4990-9D96-806753A9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604-68A9-4BBD-BC78-4E91CDCC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443-85D3-404A-B622-8CF3C6D5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13C-EABC-48F6-86BB-C400CF81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8A4-7AB2-4835-9700-149F1BB2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43B-8FC7-413E-A375-CF5C6DAE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205-6EE3-42DA-992A-1234C4CE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498-742C-4842-B1CB-1670FA02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84E-C3FB-4E21-9B01-CF1F821A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B95-6B75-42DB-900C-996F74FA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F2D-268D-4031-84C7-06E36FAA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58DB4-9C79-4D75-855F-070C30AE98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