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31941"/>
        <c:axId val="63693950"/>
      </c:barChart>
      <c:catAx>
        <c:axId val="9931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93950"/>
        <c:crosses val="autoZero"/>
        <c:auto val="1"/>
        <c:lblAlgn val="ctr"/>
        <c:lblOffset val="100"/>
        <c:noMultiLvlLbl val="0"/>
      </c:catAx>
      <c:valAx>
        <c:axId val="63693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1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3196-D084-403C-8D7C-E2BCD431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D5A3-7A87-459B-9AD5-EC261089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ADBB-7877-474F-9DA1-838C4F39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71A1-A3CF-42E6-B43E-58AF0D1F1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B54-694F-4E69-AF81-B9E80D22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87F-DD35-4099-BE42-62EE0AF3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8B76-2D24-4C6D-8A5C-C5C9B675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22F1-7749-4367-9352-B332675B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D9DA-98C9-4201-B564-F8286DAC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A1E3-52EB-49E4-8F33-2469E601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0EAD-2ACB-47F3-9071-3FD0A295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741-125A-49D0-971B-D779584F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0BB3F-F255-4A0D-8C43-C56BA1A6BE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