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62268"/>
        <c:axId val="90255180"/>
      </c:barChart>
      <c:catAx>
        <c:axId val="186622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55180"/>
        <c:crosses val="autoZero"/>
        <c:auto val="1"/>
        <c:lblAlgn val="ctr"/>
        <c:lblOffset val="100"/>
        <c:noMultiLvlLbl val="0"/>
      </c:catAx>
      <c:valAx>
        <c:axId val="90255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622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A09-74FC-4678-9748-E2300FB6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850-CAA0-4661-9F95-69BC3FB0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713-29C9-4ECC-BBBB-B88AF16F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9E3-25F1-44F6-BE04-B389A83B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02D-1B20-4510-9BB6-52EB1AD8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44C-B478-476D-AD2E-DC9A6980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7C8-C678-4C65-9BE7-283C9D16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F1E4-0B26-40BD-93B2-1AC496B4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8BF-7F51-406D-8B45-0A892BE3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E82E-AEB5-4A72-B2E0-0BAA2545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112-FABE-4700-AF6F-29F9F926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C21-0A66-40A5-BC5A-2C7314F5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250B5-4EB8-4F0A-9424-D6E7C42B2B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