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05068"/>
        <c:axId val="36657857"/>
      </c:barChart>
      <c:catAx>
        <c:axId val="448050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57857"/>
        <c:crosses val="autoZero"/>
        <c:auto val="1"/>
        <c:lblAlgn val="ctr"/>
        <c:lblOffset val="100"/>
        <c:noMultiLvlLbl val="0"/>
      </c:catAx>
      <c:valAx>
        <c:axId val="36657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050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089-2573-4A19-B671-5C191EB5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FA1-31CA-41A5-92D0-36B02CC7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173-5AE4-42DD-AC1E-0BAD715A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B67-A5E6-4FFE-B7F5-5C99A376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E20-F3C6-44C4-81EC-7EB070E6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00B-4B2E-449F-B60B-5B5BD83E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3B1-C8A4-4634-A216-62ABC99D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77D-11BF-42A2-A5F7-9305EDB7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258-75AB-4306-BE6F-260B29A8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FC1-55CB-47F3-833C-6B8D3449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532-49C0-4AC9-BC20-7FBC62E6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9CB-15D0-4E57-BFAB-85AB0371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26FF3-722D-418F-AAA6-43CFCB5331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