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264543"/>
        <c:axId val="24943038"/>
      </c:barChart>
      <c:catAx>
        <c:axId val="112645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43038"/>
        <c:crosses val="autoZero"/>
        <c:auto val="1"/>
        <c:lblAlgn val="ctr"/>
        <c:lblOffset val="100"/>
        <c:noMultiLvlLbl val="0"/>
      </c:catAx>
      <c:valAx>
        <c:axId val="249430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645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361B-57A0-430A-9A8B-697844AB7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BCF7-D5BA-4E1E-AC69-BFF7759C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DA6F-F17D-43DF-9B9D-82D487D3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7F86-1DC1-4EB3-BB5A-EADF2FB4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57B7-52A0-4E31-B956-25F56DBC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1FD2-E33A-41E8-B607-91CA56B7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7DF7-BDCF-4653-8F6F-827CF361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3A65-7853-4B6C-B584-5823F096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9D29-BED6-4BED-991C-460478D1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DAA8-6B78-42E7-92D4-03833C8F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863C-6F82-47E3-A91A-95792065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62D0-CFD2-4D2A-9093-EC57888C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8BA6B-2345-4086-8672-EC0125DDC7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