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04348"/>
        <c:axId val="41415221"/>
      </c:barChart>
      <c:catAx>
        <c:axId val="54304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5221"/>
        <c:crosses val="autoZero"/>
        <c:auto val="1"/>
        <c:lblAlgn val="ctr"/>
        <c:lblOffset val="100"/>
        <c:noMultiLvlLbl val="0"/>
      </c:catAx>
      <c:valAx>
        <c:axId val="41415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04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49A-B117-497F-85E4-EEF57D8A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9F0-09FE-471D-A01F-B771EF2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5E6-6B60-420A-B933-284DFF36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3E3-420E-4172-BC1B-6380D43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BD8-A2F1-4950-93E7-599A3EB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A54-3303-45D1-8699-63F71C6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231-557A-4CD3-9FAD-E729330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22-4C42-4C71-9F6D-A9B244F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F9F-CBDC-430D-949A-E16D03ED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0C7-9D60-4169-A3EC-F886830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98C-774C-4B00-A764-A6D9981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018-41A0-4624-A4C5-9000A38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4857D-DE24-486F-BFCF-C5D176219B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