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489893"/>
        <c:axId val="10219016"/>
      </c:barChart>
      <c:catAx>
        <c:axId val="724898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19016"/>
        <c:crosses val="autoZero"/>
        <c:auto val="1"/>
        <c:lblAlgn val="ctr"/>
        <c:lblOffset val="100"/>
        <c:noMultiLvlLbl val="0"/>
      </c:catAx>
      <c:valAx>
        <c:axId val="102190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4898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EAEC-2C88-4BBB-A8F3-B645813E0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F1AE-5B1C-4B90-A1BB-F6A873A9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6735-AA82-4B9E-9274-EA220CD9A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77BE-BCEC-43E5-A8DE-A6047375D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0D02-EF4C-4DF7-8E87-AC1C00D7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2004-8846-496D-BF7E-8EB20BDB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9363-6CFC-44AA-8281-E2424307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39FA-CA1B-4683-A21F-2B26203A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8E82-D71F-4CE8-900E-5CB0FE1C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CCB0-36A1-46F3-A9BB-1C001BF2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4CAA-1BEC-4EC7-B8B7-806EE8D4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A01A-14D3-4A38-A667-CCBB3F09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291B2-A694-4A50-B58A-632DE52B12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