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541635"/>
        <c:axId val="10320637"/>
      </c:barChart>
      <c:catAx>
        <c:axId val="485416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20637"/>
        <c:crosses val="autoZero"/>
        <c:auto val="1"/>
        <c:lblAlgn val="ctr"/>
        <c:lblOffset val="100"/>
        <c:noMultiLvlLbl val="0"/>
      </c:catAx>
      <c:valAx>
        <c:axId val="103206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416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8ED0-A7C8-4152-9943-DF1C614B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39A-A51D-4D80-9A22-EF07CBCD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324-9628-474D-83AC-90CBAF21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B13A-47AE-4D98-82B8-CF24FAC5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2045-B0EA-4494-A40C-3D92A900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F4B5-995D-4501-8BE8-A5B0EDEC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FC5B-7545-4501-ABD3-FCCA5AD8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A50-D726-4E34-9F8D-9132A6BB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27D-4F62-4926-AD3F-4421B256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4A16-DBD3-40CB-A7B3-63CAAADF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F10F-4C08-4EFD-B459-0AA859CF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5541-2BEC-4B47-A58F-E3AC820C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4B9DB-BE85-44C4-885F-276C54112D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