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651800"/>
        <c:axId val="99902892"/>
      </c:barChart>
      <c:catAx>
        <c:axId val="666518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02892"/>
        <c:crosses val="autoZero"/>
        <c:auto val="1"/>
        <c:lblAlgn val="ctr"/>
        <c:lblOffset val="100"/>
        <c:noMultiLvlLbl val="0"/>
      </c:catAx>
      <c:valAx>
        <c:axId val="999028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518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3ABA-5A99-4C64-B833-9138CA6A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B65E-5324-4113-87F4-EF56AE12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C67B-13E8-4A02-A9F3-41ADD807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CC4C-38BA-4026-90B5-FC28EA3D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6394-4293-4CC3-BFCD-896095A5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3705-5ED3-4DFF-8876-E30B0FE4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7AF9-1A51-42C9-83E6-0EF67EC4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7519-D4E0-400D-A34C-677AF41C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8A65-CD9E-4480-9A19-7FA8F9B4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8F9C-7EFF-4804-846C-2BE8B019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A733-F8DE-4B7B-A6F6-34170787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72B4-0F2D-44C5-91EF-1342CEC7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38BC1-49F6-4FDE-BBE7-DC69C03203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