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541758"/>
        <c:axId val="65359223"/>
      </c:barChart>
      <c:catAx>
        <c:axId val="87541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59223"/>
        <c:crosses val="autoZero"/>
        <c:auto val="1"/>
        <c:lblAlgn val="ctr"/>
        <c:lblOffset val="100"/>
        <c:noMultiLvlLbl val="0"/>
      </c:catAx>
      <c:valAx>
        <c:axId val="653592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41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68C-D195-4C58-B3CC-B9691B8A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C6B-7AB2-4950-A85E-44D047DC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2910-3CB0-4EC4-AB7F-C6ED563B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41D7-5E03-41A2-B095-98482E22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F26-6B5A-44EF-B65E-61673004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16B-90A3-4ED6-87B1-44B0111A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EA0-D386-4193-B5FB-83BDBECF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ED1-FF7A-4AB2-9F30-10DA125D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3DBE-0EB1-4545-BBC5-400E331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CBE-6979-47F1-99A4-427912E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8983-FAD3-45FF-ACFE-4FD51827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C5F-0F8D-417F-A917-917E70C9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80EE5-831A-446E-929E-B0E08D7F67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