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41918"/>
        <c:axId val="72369651"/>
      </c:barChart>
      <c:catAx>
        <c:axId val="85241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69651"/>
        <c:crosses val="autoZero"/>
        <c:auto val="1"/>
        <c:lblAlgn val="ctr"/>
        <c:lblOffset val="100"/>
        <c:noMultiLvlLbl val="0"/>
      </c:catAx>
      <c:valAx>
        <c:axId val="72369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41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28C-8CBA-4D89-ADDF-3F98706E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BB5-3F84-46F8-B7F3-BAD0F57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9AB-42D0-4220-BE36-6D58F93D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4B8-9718-4B87-A921-D00646E4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527-6FC4-4C26-B91F-3861CC9B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910-66BC-4F14-A902-FB32FAB3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C65-7224-4555-A0BB-01ED4DB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D8F-1C46-4607-9A99-CAE0E38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0B7-82DF-4DBB-B3C4-B88F2C0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DA6-59AD-4E26-9C4D-668B164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709-4ED7-40E4-8D3B-5BEF63E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F1F-4280-4E47-9A62-CC33B8B2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208ED-381A-421C-A3DF-CB610E209E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