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387543"/>
        <c:axId val="51167194"/>
      </c:barChart>
      <c:catAx>
        <c:axId val="12387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67194"/>
        <c:crosses val="autoZero"/>
        <c:auto val="1"/>
        <c:lblAlgn val="ctr"/>
        <c:lblOffset val="100"/>
        <c:noMultiLvlLbl val="0"/>
      </c:catAx>
      <c:valAx>
        <c:axId val="51167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87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905-DA9F-40B8-93D7-B85C9A01B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494-9530-4D0D-B59F-B43F701F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A38-4C12-4DF4-93A7-12807596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583-DA63-4C91-AE12-4FF2CC57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B68-FE4C-494A-B337-8273268B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AB3D-0E95-4F27-A18E-5F6FD38D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FDC-DE20-40F3-8D97-737A51E4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07DE-B979-461D-856F-36C6241C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04E7-39E4-4335-A2CA-65CAE871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819-2CFD-4B7D-8E3F-F0823B64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D9DD-C4C2-4884-BE50-52664DCA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351-74EE-4D75-8DCB-5F1EF1A3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9CEA2-4E5E-46DA-B6DB-60291A94DC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