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690794"/>
        <c:axId val="72620284"/>
      </c:barChart>
      <c:catAx>
        <c:axId val="846907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20284"/>
        <c:crosses val="autoZero"/>
        <c:auto val="1"/>
        <c:lblAlgn val="ctr"/>
        <c:lblOffset val="100"/>
        <c:noMultiLvlLbl val="0"/>
      </c:catAx>
      <c:valAx>
        <c:axId val="726202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6907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09E8-928E-4C68-8A35-9EDB68F46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5E78-7288-4B34-BE7B-01193110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8B1E-4BC0-42DB-8F86-390543FB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D422-2301-47F6-A916-DC37F27F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9F51-15AA-4653-919A-E8DD751A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B66B-AA17-4CD5-8E8C-99D87289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D4B0-64DA-479D-8B4E-AF8900F9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60CB-322C-4F13-BE10-FB185810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B418-3AAA-4C5F-9C01-A3DE1D0B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D2C5-756D-4CF7-9799-C825913D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F5BA-9635-415E-8BA2-D656ECAC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0E8E-2BC0-4665-B842-6C39A71D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E092B-3DBD-4CA8-BC2F-47B4C4CA41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