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563500"/>
        <c:axId val="84149912"/>
      </c:barChart>
      <c:catAx>
        <c:axId val="915635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149912"/>
        <c:crosses val="autoZero"/>
        <c:auto val="1"/>
        <c:lblAlgn val="ctr"/>
        <c:lblOffset val="100"/>
        <c:noMultiLvlLbl val="0"/>
      </c:catAx>
      <c:valAx>
        <c:axId val="841499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5635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5B9F-6FC6-4304-9E11-7C07C98DB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18C4-3A0C-4C1C-987C-A021870C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13B5-D2E5-40A8-8DBD-DD6452BB5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FA7D-B3E2-4638-88D4-5DFF88712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FE6E-9A97-42CF-BE0A-B6433A72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A14B-5B56-4406-9839-94449A82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DE29-7010-4740-B115-991E4616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572D-84D3-4151-A8A6-AA9F89BA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9F8E-C261-46D2-8D25-79B351FF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40A0-99F2-4F7F-BBE2-C7F547E4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1D5F-3528-4492-BB9C-61305043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0944-89C2-484C-BDF4-E7E5EDA2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EE3A2-CE95-4550-899A-41636EB8FF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