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2850"/>
        <c:axId val="91426757"/>
      </c:barChart>
      <c:catAx>
        <c:axId val="6582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26757"/>
        <c:crosses val="autoZero"/>
        <c:auto val="1"/>
        <c:lblAlgn val="ctr"/>
        <c:lblOffset val="100"/>
        <c:noMultiLvlLbl val="0"/>
      </c:catAx>
      <c:valAx>
        <c:axId val="91426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B74-FFF7-4FF4-BEAD-E2A3C0A1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734-CE4D-49C4-A355-B969F1AE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200-DB0B-4432-A720-FD7BAEAD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8B9-5AEF-4E47-8CFC-E09B18C5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A13-22DC-44BF-AA4C-989570ED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EFE-88E0-4AF9-8068-70DE47A3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ACB-EA5F-48E9-8291-7923DD63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0D0-637F-4C36-AB87-6773077C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5A9-14C8-4563-B22E-C1AF8830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892-5FE6-4138-85CD-5838ABF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270-912D-48F0-928B-A95C0F3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FD9-B8E3-4DFD-A74D-1D3EBDB8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22EE3-0FA8-4216-8BF5-B277FAF0B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